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1294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bca63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458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560" y="4442040"/>
            <a:ext cx="8458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1294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bca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4127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8600" y="2133720"/>
            <a:ext cx="4127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560" y="4442040"/>
            <a:ext cx="4127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8600" y="4442040"/>
            <a:ext cx="4127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1294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bca63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2723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4400" y="2133720"/>
            <a:ext cx="2723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4600" y="2133720"/>
            <a:ext cx="2723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560" y="4442040"/>
            <a:ext cx="2723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4400" y="4442040"/>
            <a:ext cx="2723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4600" y="4442040"/>
            <a:ext cx="2723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560" y="1294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bca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560" y="21337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1294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bca63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294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bca63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4127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38600" y="2133720"/>
            <a:ext cx="4127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1294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bca63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560" y="12949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1294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bca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4127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8600" y="2133720"/>
            <a:ext cx="4127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4560" y="4442040"/>
            <a:ext cx="4127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560" y="1294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bca638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560" y="21337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294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bca63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4127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8600" y="2133720"/>
            <a:ext cx="4127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38600" y="4442040"/>
            <a:ext cx="4127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294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bca63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4127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8600" y="2133720"/>
            <a:ext cx="4127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560" y="4442040"/>
            <a:ext cx="8458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294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bca63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458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4560" y="4442040"/>
            <a:ext cx="8458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1294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bca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4127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8600" y="2133720"/>
            <a:ext cx="4127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560" y="4442040"/>
            <a:ext cx="4127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38600" y="4442040"/>
            <a:ext cx="4127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1294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bca63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2723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64400" y="2133720"/>
            <a:ext cx="2723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4600" y="2133720"/>
            <a:ext cx="2723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4560" y="4442040"/>
            <a:ext cx="2723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64400" y="4442040"/>
            <a:ext cx="2723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4600" y="4442040"/>
            <a:ext cx="2723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1294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bca63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1294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bca63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4127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8600" y="2133720"/>
            <a:ext cx="4127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1294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bca63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4560" y="12949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294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bca63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4127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8600" y="2133720"/>
            <a:ext cx="4127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560" y="4442040"/>
            <a:ext cx="4127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1294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bca63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4127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8600" y="2133720"/>
            <a:ext cx="4127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8600" y="4442040"/>
            <a:ext cx="4127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1294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bca63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4127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8600" y="2133720"/>
            <a:ext cx="4127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560" y="4442040"/>
            <a:ext cx="8458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PowerPoint header (Corporate)"/>
          <p:cNvPicPr/>
          <p:nvPr/>
        </p:nvPicPr>
        <p:blipFill>
          <a:blip r:embed="rId2"/>
          <a:stretch/>
        </p:blipFill>
        <p:spPr>
          <a:xfrm>
            <a:off x="0" y="0"/>
            <a:ext cx="9144000" cy="1106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1294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ca638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bca638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560" y="21337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7" descr="PowerPoint title page (Corporate)"/>
          <p:cNvPicPr/>
          <p:nvPr/>
        </p:nvPicPr>
        <p:blipFill>
          <a:blip r:embed="rId2"/>
          <a:stretch/>
        </p:blipFill>
        <p:spPr>
          <a:xfrm>
            <a:off x="0" y="0"/>
            <a:ext cx="9144000" cy="534348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560" y="1294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ca638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bca63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304560" y="21337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200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400" spc="-1" strike="noStrike">
                <a:solidFill>
                  <a:srgbClr val="ffffff"/>
                </a:solidFill>
                <a:latin typeface="Arial"/>
              </a:rPr>
              <a:t>2010 Retreat</a:t>
            </a:r>
            <a:endParaRPr b="0" lang="en-US" sz="3400" spc="-1" strike="noStrike">
              <a:solidFill>
                <a:srgbClr val="bca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42920" y="4266720"/>
            <a:ext cx="87868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bca638"/>
                </a:solidFill>
                <a:latin typeface="Arial"/>
              </a:rPr>
              <a:t>COLLEGE OF ENGINEERING AND COMPUTER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285480" y="13568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U is a strategic endowment for the 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U is an education-intensive research institute of international distinction. Research profile drives academic pro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academic profile is driven by what is important for Australia and its place in the world: the issues, topics and disciplines that are in the long-term national inter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tandards – in research and education – are consistent with the highest in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85480" y="149976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improve our standards through rigorous international benchmarking with selected peer univers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use our scale, our campus and our characteristics to maximise advantage to staff and stud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enhance our scope through selective international partnerships and meet our commitment to the nation through selective national partnershi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growth will be at postgraduate level (to 50% of the student profile) with Doctoral students comprising 25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85480" y="142884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U staff and students engage with government, business and the broader community to inform and inspire, and use their intellectual capital to produce wider benefits to socie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Alumni are an important source of advice and support for the Univers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1294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400" spc="-1" strike="noStrike">
                <a:solidFill>
                  <a:srgbClr val="bca638"/>
                </a:solidFill>
                <a:latin typeface="Arial"/>
              </a:rPr>
              <a:t>RESEARCH</a:t>
            </a:r>
            <a:endParaRPr b="0" lang="en-US" sz="3400" spc="-1" strike="noStrike">
              <a:solidFill>
                <a:srgbClr val="bca63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85480" y="192888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rincipal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ing up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ruitment and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er term research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HDR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 College 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der bal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560" y="1294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400" spc="-1" strike="noStrike">
                <a:solidFill>
                  <a:srgbClr val="bca638"/>
                </a:solidFill>
                <a:latin typeface="Arial"/>
              </a:rPr>
              <a:t>RESEARCH</a:t>
            </a:r>
            <a:endParaRPr b="0" lang="en-US" sz="3400" spc="-1" strike="noStrike">
              <a:solidFill>
                <a:srgbClr val="bca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85480" y="185688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ear term imper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65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ademic pro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65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65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pen the plann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65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e ASI funding (half comple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65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gearing from NICTA 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65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and Private sector engagement for resource building (linkage pl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65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positions/ Sponsored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65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T (Materials engineering@ANU, Bio-engineering, super-sens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294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400" spc="-1" strike="noStrike">
                <a:solidFill>
                  <a:srgbClr val="bca638"/>
                </a:solidFill>
                <a:latin typeface="Arial"/>
              </a:rPr>
              <a:t>EDUCATION</a:t>
            </a:r>
            <a:endParaRPr b="0" lang="en-US" sz="3400" spc="-1" strike="noStrike">
              <a:solidFill>
                <a:srgbClr val="bca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56760" y="192888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rincipal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880" indent="-259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est decline Computer Science 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880" indent="-259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880" indent="-259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gn undergraduate programs with private and public sector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880" indent="-259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route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880" indent="-259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nded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880" indent="-259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research and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880" indent="-259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and attractive Masters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880" indent="-259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ied HDR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880" indent="-259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1294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400" spc="-1" strike="noStrike">
                <a:solidFill>
                  <a:srgbClr val="bca638"/>
                </a:solidFill>
                <a:latin typeface="Arial"/>
              </a:rPr>
              <a:t>EDUCATION</a:t>
            </a:r>
            <a:endParaRPr b="0" lang="en-US" sz="3400" spc="-1" strike="noStrike">
              <a:solidFill>
                <a:srgbClr val="bca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56760" y="185688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ear term imper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56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Science marketing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56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-equipment and upgrading of engineering l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56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gnment of education and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56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gnment with public and private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56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Professional masters courses (joi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56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 H&amp;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56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56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rnal program review (National and Internat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56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 –College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56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pen planning (inc financ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294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400" spc="-1" strike="noStrike">
                <a:solidFill>
                  <a:srgbClr val="bca638"/>
                </a:solidFill>
                <a:latin typeface="Arial"/>
              </a:rPr>
              <a:t>COMMUNITY</a:t>
            </a:r>
            <a:endParaRPr b="0" lang="en-US" sz="3400" spc="-1" strike="noStrike">
              <a:solidFill>
                <a:srgbClr val="bca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53920" indent="-285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t public and private sector eng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ruit business development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er schools for Engineering and Computer Science educators, School visits, compet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men in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DR poster day (CB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 (New buil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ovation and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reach - 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23:58:16Z</dcterms:created>
  <dc:creator>u3593744</dc:creator>
  <dc:description/>
  <dc:language>en-US</dc:language>
  <cp:lastModifiedBy>Heather McEwen</cp:lastModifiedBy>
  <dcterms:modified xsi:type="dcterms:W3CDTF">2010-02-18T04:05:21Z</dcterms:modified>
  <cp:revision>23</cp:revision>
  <dc:subject/>
  <dc:title>PowerPoint Presentation</dc:title>
</cp:coreProperties>
</file>